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A70-6414-4780-B4EE-26E9AAF9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868-0A67-4DF5-82F8-A0B04111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5F9-0B1E-4D20-89D4-119CC363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9DB-4832-4A80-BCB6-728D711B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8E89B-2D04-44B2-887C-4427D42E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5A15D-8A9B-4868-8DEB-0627F212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A80D8-1DEA-42F1-8704-5561EEFF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58854-107F-40F3-AB2B-B7C9E7EC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266D9-C66A-478B-A91C-34953B41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295AC-8A6E-4EC5-820F-4CEA99EA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9B19E-11B9-435E-AED3-FA24B82F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BB6-3BC3-40C6-978E-A327E7F2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B3654-99F1-41A4-AF78-7BF823DB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262D7-26B7-4586-A8A8-FA0B799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97A5B-D14B-4E1E-8534-71231BCF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51A17-BA8F-425F-97F0-6BD209BC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F02E4-D6FD-464A-9C6C-8C9CF5B6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4DA-688E-4235-AE84-F758DF9C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55A-7819-475B-B516-CA3AE05E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5B9-5B5C-4E91-8C1A-F67297AE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852-F6BA-410E-8C82-7872C5CA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85A-1297-4D4F-AECA-C2DC4F8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15D-5D89-4D29-8AC6-A726675A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274-E837-438C-875D-A6AA2746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F6D-34F0-42E3-BBB5-E65DF238E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F86F-07FF-4166-9F9C-C4FC430861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Independent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 vs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Depend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at’s Wh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o’s W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126360" y="3318120"/>
            <a:ext cx="1730520" cy="3416760"/>
            <a:chOff x="126360" y="3318120"/>
            <a:chExt cx="1730520" cy="3416760"/>
          </a:xfrm>
        </p:grpSpPr>
        <p:sp>
          <p:nvSpPr>
            <p:cNvPr id="86" name="WordArt 7"/>
            <p:cNvSpPr txBox="1"/>
            <p:nvPr/>
          </p:nvSpPr>
          <p:spPr>
            <a:xfrm rot="702000">
              <a:off x="343800" y="4344840"/>
              <a:ext cx="1294920" cy="228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75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cc"/>
                  </a:soli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87" name="Group 8"/>
            <p:cNvGrpSpPr/>
            <p:nvPr/>
          </p:nvGrpSpPr>
          <p:grpSpPr>
            <a:xfrm>
              <a:off x="444240" y="3318120"/>
              <a:ext cx="1068480" cy="1740240"/>
              <a:chOff x="444240" y="3318120"/>
              <a:chExt cx="1068480" cy="1740240"/>
            </a:xfrm>
          </p:grpSpPr>
          <p:sp>
            <p:nvSpPr>
              <p:cNvPr id="88" name="Freeform 9"/>
              <p:cNvSpPr/>
              <p:nvPr/>
            </p:nvSpPr>
            <p:spPr>
              <a:xfrm rot="21330000">
                <a:off x="930960" y="3701880"/>
                <a:ext cx="315360" cy="1346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10"/>
              <p:cNvSpPr/>
              <p:nvPr/>
            </p:nvSpPr>
            <p:spPr>
              <a:xfrm rot="21330000">
                <a:off x="523800" y="3394800"/>
                <a:ext cx="915840" cy="122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 rot="21330000">
                <a:off x="1036800" y="3686760"/>
                <a:ext cx="218520" cy="1033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12"/>
              <p:cNvSpPr/>
              <p:nvPr/>
            </p:nvSpPr>
            <p:spPr>
              <a:xfrm rot="21330000">
                <a:off x="907560" y="3805200"/>
                <a:ext cx="73800" cy="119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 rot="21330000">
                <a:off x="1033200" y="4373280"/>
                <a:ext cx="1152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14"/>
              <p:cNvSpPr/>
              <p:nvPr/>
            </p:nvSpPr>
            <p:spPr>
              <a:xfrm rot="21330000">
                <a:off x="1042200" y="4441320"/>
                <a:ext cx="849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15"/>
              <p:cNvSpPr/>
              <p:nvPr/>
            </p:nvSpPr>
            <p:spPr>
              <a:xfrm rot="21330000">
                <a:off x="1088280" y="3923280"/>
                <a:ext cx="107640" cy="36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16"/>
              <p:cNvSpPr/>
              <p:nvPr/>
            </p:nvSpPr>
            <p:spPr>
              <a:xfrm rot="21330000">
                <a:off x="1161360" y="3968640"/>
                <a:ext cx="3348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17"/>
              <p:cNvSpPr/>
              <p:nvPr/>
            </p:nvSpPr>
            <p:spPr>
              <a:xfrm rot="21330000">
                <a:off x="944640" y="3889800"/>
                <a:ext cx="130320" cy="19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 rot="21330000">
                <a:off x="1005480" y="3945960"/>
                <a:ext cx="5544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19"/>
              <p:cNvSpPr/>
              <p:nvPr/>
            </p:nvSpPr>
            <p:spPr>
              <a:xfrm rot="21330000">
                <a:off x="784080" y="3639600"/>
                <a:ext cx="566640" cy="17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20"/>
              <p:cNvSpPr/>
              <p:nvPr/>
            </p:nvSpPr>
            <p:spPr>
              <a:xfrm rot="21330000">
                <a:off x="680760" y="3343320"/>
                <a:ext cx="667080" cy="49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21"/>
              <p:cNvSpPr/>
              <p:nvPr/>
            </p:nvSpPr>
            <p:spPr>
              <a:xfrm rot="21330000">
                <a:off x="487800" y="3512520"/>
                <a:ext cx="455760" cy="112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Freeform 22"/>
              <p:cNvSpPr/>
              <p:nvPr/>
            </p:nvSpPr>
            <p:spPr>
              <a:xfrm rot="21330000">
                <a:off x="816120" y="3567240"/>
                <a:ext cx="34488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Freeform 23"/>
              <p:cNvSpPr/>
              <p:nvPr/>
            </p:nvSpPr>
            <p:spPr>
              <a:xfrm rot="21330000">
                <a:off x="825480" y="4093560"/>
                <a:ext cx="129240" cy="14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Freeform 24"/>
              <p:cNvSpPr/>
              <p:nvPr/>
            </p:nvSpPr>
            <p:spPr>
              <a:xfrm rot="21330000">
                <a:off x="1164960" y="3673080"/>
                <a:ext cx="311760" cy="9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Freeform 25"/>
              <p:cNvSpPr/>
              <p:nvPr/>
            </p:nvSpPr>
            <p:spPr>
              <a:xfrm rot="21330000">
                <a:off x="1005480" y="3766680"/>
                <a:ext cx="66240" cy="8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 rot="21330000">
                <a:off x="1134720" y="3771360"/>
                <a:ext cx="4428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Freeform 27"/>
              <p:cNvSpPr/>
              <p:nvPr/>
            </p:nvSpPr>
            <p:spPr>
              <a:xfrm rot="21330000">
                <a:off x="1004040" y="4366440"/>
                <a:ext cx="8568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 rot="21330000">
                <a:off x="978840" y="4321440"/>
                <a:ext cx="4788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Freeform 29"/>
              <p:cNvSpPr/>
              <p:nvPr/>
            </p:nvSpPr>
            <p:spPr>
              <a:xfrm rot="21330000">
                <a:off x="1017360" y="4708440"/>
                <a:ext cx="110880" cy="29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9" name="Group 30"/>
          <p:cNvGrpSpPr/>
          <p:nvPr/>
        </p:nvGrpSpPr>
        <p:grpSpPr>
          <a:xfrm>
            <a:off x="1981080" y="2895480"/>
            <a:ext cx="1295280" cy="3352680"/>
            <a:chOff x="1981080" y="2895480"/>
            <a:chExt cx="1295280" cy="3352680"/>
          </a:xfrm>
        </p:grpSpPr>
        <p:sp>
          <p:nvSpPr>
            <p:cNvPr id="110" name="WordArt 31"/>
            <p:cNvSpPr txBox="1"/>
            <p:nvPr/>
          </p:nvSpPr>
          <p:spPr>
            <a:xfrm>
              <a:off x="1981080" y="3968280"/>
              <a:ext cx="1295280" cy="227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069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</a:rPr>
                <a:t>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11" name="Group 32"/>
            <p:cNvGrpSpPr/>
            <p:nvPr/>
          </p:nvGrpSpPr>
          <p:grpSpPr>
            <a:xfrm>
              <a:off x="2062800" y="2895480"/>
              <a:ext cx="1065240" cy="1616400"/>
              <a:chOff x="2062800" y="2895480"/>
              <a:chExt cx="1065240" cy="1616400"/>
            </a:xfrm>
          </p:grpSpPr>
          <p:sp>
            <p:nvSpPr>
              <p:cNvPr id="112" name="Freeform 33"/>
              <p:cNvSpPr/>
              <p:nvPr/>
            </p:nvSpPr>
            <p:spPr>
              <a:xfrm>
                <a:off x="2062800" y="2895480"/>
                <a:ext cx="1065240" cy="161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Freeform 34"/>
              <p:cNvSpPr/>
              <p:nvPr/>
            </p:nvSpPr>
            <p:spPr>
              <a:xfrm>
                <a:off x="2563200" y="2980800"/>
                <a:ext cx="39240" cy="5940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35"/>
              <p:cNvSpPr/>
              <p:nvPr/>
            </p:nvSpPr>
            <p:spPr>
              <a:xfrm>
                <a:off x="2637720" y="2993400"/>
                <a:ext cx="146880" cy="15624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36"/>
              <p:cNvSpPr/>
              <p:nvPr/>
            </p:nvSpPr>
            <p:spPr>
              <a:xfrm>
                <a:off x="2799720" y="3038760"/>
                <a:ext cx="47160" cy="7416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37"/>
              <p:cNvSpPr/>
              <p:nvPr/>
            </p:nvSpPr>
            <p:spPr>
              <a:xfrm>
                <a:off x="2314800" y="3069720"/>
                <a:ext cx="716760" cy="133524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38"/>
              <p:cNvSpPr/>
              <p:nvPr/>
            </p:nvSpPr>
            <p:spPr>
              <a:xfrm>
                <a:off x="2865240" y="3098520"/>
                <a:ext cx="32760" cy="3600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39"/>
              <p:cNvSpPr/>
              <p:nvPr/>
            </p:nvSpPr>
            <p:spPr>
              <a:xfrm>
                <a:off x="2681280" y="3435840"/>
                <a:ext cx="203400" cy="16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40"/>
              <p:cNvSpPr/>
              <p:nvPr/>
            </p:nvSpPr>
            <p:spPr>
              <a:xfrm>
                <a:off x="2401560" y="3445200"/>
                <a:ext cx="128520" cy="6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2700000" y="3537720"/>
                <a:ext cx="124560" cy="83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42"/>
              <p:cNvSpPr/>
              <p:nvPr/>
            </p:nvSpPr>
            <p:spPr>
              <a:xfrm>
                <a:off x="2455560" y="3628440"/>
                <a:ext cx="16668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43"/>
              <p:cNvSpPr/>
              <p:nvPr/>
            </p:nvSpPr>
            <p:spPr>
              <a:xfrm>
                <a:off x="2855880" y="3811680"/>
                <a:ext cx="135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44"/>
              <p:cNvSpPr/>
              <p:nvPr/>
            </p:nvSpPr>
            <p:spPr>
              <a:xfrm>
                <a:off x="2406600" y="3829680"/>
                <a:ext cx="217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45"/>
              <p:cNvSpPr/>
              <p:nvPr/>
            </p:nvSpPr>
            <p:spPr>
              <a:xfrm>
                <a:off x="2181960" y="3911760"/>
                <a:ext cx="70560" cy="9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46"/>
              <p:cNvSpPr/>
              <p:nvPr/>
            </p:nvSpPr>
            <p:spPr>
              <a:xfrm>
                <a:off x="2399040" y="3924360"/>
                <a:ext cx="160200" cy="12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47"/>
              <p:cNvSpPr/>
              <p:nvPr/>
            </p:nvSpPr>
            <p:spPr>
              <a:xfrm>
                <a:off x="2976840" y="3971160"/>
                <a:ext cx="123480" cy="8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48"/>
              <p:cNvSpPr/>
              <p:nvPr/>
            </p:nvSpPr>
            <p:spPr>
              <a:xfrm>
                <a:off x="2109960" y="3986280"/>
                <a:ext cx="1494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49"/>
              <p:cNvSpPr/>
              <p:nvPr/>
            </p:nvSpPr>
            <p:spPr>
              <a:xfrm>
                <a:off x="2406600" y="4170960"/>
                <a:ext cx="98280" cy="20844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9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hat is the independent and dependent variable ?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How much I pay to fill my car is a function of the price of the gaso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Your algebra grade is a function of how well you do your homework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500" autoRev="1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3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1500" autoRev="1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much I pay to fill my car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is a function o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e price of the gasoline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our algebra grade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is a function of how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ell you do your homework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ndependent Variab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 have 2 arms and 2 legs—I can DR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 am indepen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3" name="Group 131"/>
          <p:cNvGrpSpPr/>
          <p:nvPr/>
        </p:nvGrpSpPr>
        <p:grpSpPr>
          <a:xfrm>
            <a:off x="-3581280" y="5829480"/>
            <a:ext cx="3581280" cy="1028520"/>
            <a:chOff x="-3581280" y="5829480"/>
            <a:chExt cx="3581280" cy="1028520"/>
          </a:xfrm>
        </p:grpSpPr>
        <p:grpSp>
          <p:nvGrpSpPr>
            <p:cNvPr id="134" name="Group 130"/>
            <p:cNvGrpSpPr/>
            <p:nvPr/>
          </p:nvGrpSpPr>
          <p:grpSpPr>
            <a:xfrm>
              <a:off x="-2382120" y="5829480"/>
              <a:ext cx="573120" cy="1009080"/>
              <a:chOff x="-2382120" y="5829480"/>
              <a:chExt cx="573120" cy="1009080"/>
            </a:xfrm>
          </p:grpSpPr>
          <p:sp>
            <p:nvSpPr>
              <p:cNvPr id="135" name="WordArt 106"/>
              <p:cNvSpPr txBox="1"/>
              <p:nvPr/>
            </p:nvSpPr>
            <p:spPr>
              <a:xfrm rot="972000">
                <a:off x="-2285640" y="6057360"/>
                <a:ext cx="380880" cy="74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2751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ff"/>
                    </a:solidFill>
                    <a:latin typeface="Arial Black"/>
                  </a:rPr>
                  <a:t>x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136" name="Group 107"/>
              <p:cNvGrpSpPr/>
              <p:nvPr/>
            </p:nvGrpSpPr>
            <p:grpSpPr>
              <a:xfrm>
                <a:off x="-2211480" y="5829480"/>
                <a:ext cx="290880" cy="556560"/>
                <a:chOff x="-2211480" y="5829480"/>
                <a:chExt cx="290880" cy="556560"/>
              </a:xfrm>
            </p:grpSpPr>
            <p:sp>
              <p:nvSpPr>
                <p:cNvPr id="137" name="Freeform 108"/>
                <p:cNvSpPr/>
                <p:nvPr/>
              </p:nvSpPr>
              <p:spPr>
                <a:xfrm>
                  <a:off x="-2087640" y="5947560"/>
                  <a:ext cx="92880" cy="438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" name="Freeform 109"/>
                <p:cNvSpPr/>
                <p:nvPr/>
              </p:nvSpPr>
              <p:spPr>
                <a:xfrm>
                  <a:off x="-2199240" y="5844960"/>
                  <a:ext cx="270720" cy="399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110"/>
                <p:cNvSpPr/>
                <p:nvPr/>
              </p:nvSpPr>
              <p:spPr>
                <a:xfrm>
                  <a:off x="-2052360" y="5944320"/>
                  <a:ext cx="6444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0" name="Freeform 111"/>
                <p:cNvSpPr/>
                <p:nvPr/>
              </p:nvSpPr>
              <p:spPr>
                <a:xfrm>
                  <a:off x="-2094840" y="5977440"/>
                  <a:ext cx="21600" cy="389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" name="Freeform 112"/>
                <p:cNvSpPr/>
                <p:nvPr/>
              </p:nvSpPr>
              <p:spPr>
                <a:xfrm>
                  <a:off x="-2057760" y="6166080"/>
                  <a:ext cx="33840" cy="21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Freeform 113"/>
                <p:cNvSpPr/>
                <p:nvPr/>
              </p:nvSpPr>
              <p:spPr>
                <a:xfrm>
                  <a:off x="-2056680" y="6188040"/>
                  <a:ext cx="24840" cy="15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Freeform 114"/>
                <p:cNvSpPr/>
                <p:nvPr/>
              </p:nvSpPr>
              <p:spPr>
                <a:xfrm>
                  <a:off x="-2034720" y="6021360"/>
                  <a:ext cx="31680" cy="119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Freeform 115"/>
                <p:cNvSpPr/>
                <p:nvPr/>
              </p:nvSpPr>
              <p:spPr>
                <a:xfrm>
                  <a:off x="-2010600" y="6036840"/>
                  <a:ext cx="972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Freeform 116"/>
                <p:cNvSpPr/>
                <p:nvPr/>
              </p:nvSpPr>
              <p:spPr>
                <a:xfrm>
                  <a:off x="-2074320" y="6006960"/>
                  <a:ext cx="38520" cy="63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" name="Freeform 117"/>
                <p:cNvSpPr/>
                <p:nvPr/>
              </p:nvSpPr>
              <p:spPr>
                <a:xfrm>
                  <a:off x="-2056680" y="6026040"/>
                  <a:ext cx="16200" cy="36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" name="Freeform 118"/>
                <p:cNvSpPr/>
                <p:nvPr/>
              </p:nvSpPr>
              <p:spPr>
                <a:xfrm>
                  <a:off x="-2115720" y="5927040"/>
                  <a:ext cx="167400" cy="56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119"/>
                <p:cNvSpPr/>
                <p:nvPr/>
              </p:nvSpPr>
              <p:spPr>
                <a:xfrm>
                  <a:off x="-2143080" y="5829480"/>
                  <a:ext cx="196920" cy="161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Freeform 120"/>
                <p:cNvSpPr/>
                <p:nvPr/>
              </p:nvSpPr>
              <p:spPr>
                <a:xfrm>
                  <a:off x="-2211480" y="5876280"/>
                  <a:ext cx="134640" cy="36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Freeform 121"/>
                <p:cNvSpPr/>
                <p:nvPr/>
              </p:nvSpPr>
              <p:spPr>
                <a:xfrm>
                  <a:off x="-2103840" y="5901840"/>
                  <a:ext cx="101880" cy="36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Freeform 122"/>
                <p:cNvSpPr/>
                <p:nvPr/>
              </p:nvSpPr>
              <p:spPr>
                <a:xfrm>
                  <a:off x="-2113560" y="6069960"/>
                  <a:ext cx="38160" cy="4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2" name="Freeform 123"/>
                <p:cNvSpPr/>
                <p:nvPr/>
              </p:nvSpPr>
              <p:spPr>
                <a:xfrm>
                  <a:off x="-2012760" y="5944320"/>
                  <a:ext cx="92160" cy="30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Freeform 124"/>
                <p:cNvSpPr/>
                <p:nvPr/>
              </p:nvSpPr>
              <p:spPr>
                <a:xfrm>
                  <a:off x="-2052360" y="5967720"/>
                  <a:ext cx="19440" cy="26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125"/>
                <p:cNvSpPr/>
                <p:nvPr/>
              </p:nvSpPr>
              <p:spPr>
                <a:xfrm>
                  <a:off x="-2013840" y="5972400"/>
                  <a:ext cx="12960" cy="17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126"/>
                <p:cNvSpPr/>
                <p:nvPr/>
              </p:nvSpPr>
              <p:spPr>
                <a:xfrm>
                  <a:off x="-2066760" y="6162840"/>
                  <a:ext cx="25200" cy="28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Freeform 127"/>
                <p:cNvSpPr/>
                <p:nvPr/>
              </p:nvSpPr>
              <p:spPr>
                <a:xfrm>
                  <a:off x="-2073240" y="6147360"/>
                  <a:ext cx="14040" cy="28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128"/>
                <p:cNvSpPr/>
                <p:nvPr/>
              </p:nvSpPr>
              <p:spPr>
                <a:xfrm>
                  <a:off x="-2073240" y="6274440"/>
                  <a:ext cx="32760" cy="9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8" name="Freeform 55"/>
            <p:cNvSpPr/>
            <p:nvPr/>
          </p:nvSpPr>
          <p:spPr>
            <a:xfrm>
              <a:off x="-1941480" y="6284880"/>
              <a:ext cx="633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56"/>
            <p:cNvSpPr/>
            <p:nvPr/>
          </p:nvSpPr>
          <p:spPr>
            <a:xfrm>
              <a:off x="-3581280" y="6537240"/>
              <a:ext cx="565200" cy="20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57"/>
            <p:cNvSpPr/>
            <p:nvPr/>
          </p:nvSpPr>
          <p:spPr>
            <a:xfrm>
              <a:off x="-2567160" y="6537240"/>
              <a:ext cx="1530360" cy="2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58"/>
            <p:cNvSpPr/>
            <p:nvPr/>
          </p:nvSpPr>
          <p:spPr>
            <a:xfrm>
              <a:off x="-2467080" y="6269040"/>
              <a:ext cx="16200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59"/>
            <p:cNvSpPr/>
            <p:nvPr/>
          </p:nvSpPr>
          <p:spPr>
            <a:xfrm>
              <a:off x="-3581280" y="6346800"/>
              <a:ext cx="3581280" cy="37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60"/>
            <p:cNvSpPr/>
            <p:nvPr/>
          </p:nvSpPr>
          <p:spPr>
            <a:xfrm>
              <a:off x="-2109960" y="6151680"/>
              <a:ext cx="459000" cy="19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61"/>
            <p:cNvSpPr/>
            <p:nvPr/>
          </p:nvSpPr>
          <p:spPr>
            <a:xfrm>
              <a:off x="-2946240" y="6232680"/>
              <a:ext cx="47916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62"/>
            <p:cNvSpPr/>
            <p:nvPr/>
          </p:nvSpPr>
          <p:spPr>
            <a:xfrm>
              <a:off x="-1905120" y="6180120"/>
              <a:ext cx="4892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63"/>
            <p:cNvSpPr/>
            <p:nvPr/>
          </p:nvSpPr>
          <p:spPr>
            <a:xfrm>
              <a:off x="-3581280" y="6513480"/>
              <a:ext cx="590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64"/>
            <p:cNvSpPr/>
            <p:nvPr/>
          </p:nvSpPr>
          <p:spPr>
            <a:xfrm>
              <a:off x="-2590920" y="6513480"/>
              <a:ext cx="15829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65"/>
            <p:cNvSpPr/>
            <p:nvPr/>
          </p:nvSpPr>
          <p:spPr>
            <a:xfrm>
              <a:off x="-598320" y="6513480"/>
              <a:ext cx="309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-3460680" y="6564240"/>
              <a:ext cx="2397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67"/>
            <p:cNvSpPr/>
            <p:nvPr/>
          </p:nvSpPr>
          <p:spPr>
            <a:xfrm>
              <a:off x="-1368360" y="6561000"/>
              <a:ext cx="22860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68"/>
            <p:cNvSpPr/>
            <p:nvPr/>
          </p:nvSpPr>
          <p:spPr>
            <a:xfrm>
              <a:off x="-1405080" y="6613560"/>
              <a:ext cx="231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69"/>
            <p:cNvSpPr/>
            <p:nvPr/>
          </p:nvSpPr>
          <p:spPr>
            <a:xfrm>
              <a:off x="-1428840" y="6669000"/>
              <a:ext cx="2383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70"/>
            <p:cNvSpPr/>
            <p:nvPr/>
          </p:nvSpPr>
          <p:spPr>
            <a:xfrm>
              <a:off x="-266760" y="6478560"/>
              <a:ext cx="1317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71"/>
            <p:cNvSpPr/>
            <p:nvPr/>
          </p:nvSpPr>
          <p:spPr>
            <a:xfrm>
              <a:off x="-395280" y="6559560"/>
              <a:ext cx="3268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72"/>
            <p:cNvSpPr/>
            <p:nvPr/>
          </p:nvSpPr>
          <p:spPr>
            <a:xfrm>
              <a:off x="-2436840" y="6392880"/>
              <a:ext cx="1699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73"/>
            <p:cNvSpPr/>
            <p:nvPr/>
          </p:nvSpPr>
          <p:spPr>
            <a:xfrm>
              <a:off x="-1093680" y="6450120"/>
              <a:ext cx="5904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74"/>
            <p:cNvSpPr/>
            <p:nvPr/>
          </p:nvSpPr>
          <p:spPr>
            <a:xfrm>
              <a:off x="-3083040" y="6450120"/>
              <a:ext cx="595440" cy="30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75"/>
            <p:cNvSpPr/>
            <p:nvPr/>
          </p:nvSpPr>
          <p:spPr>
            <a:xfrm>
              <a:off x="-3040200" y="6481800"/>
              <a:ext cx="495360" cy="37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76"/>
            <p:cNvSpPr/>
            <p:nvPr/>
          </p:nvSpPr>
          <p:spPr>
            <a:xfrm>
              <a:off x="-1050840" y="6481800"/>
              <a:ext cx="495360" cy="37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77"/>
            <p:cNvSpPr/>
            <p:nvPr/>
          </p:nvSpPr>
          <p:spPr>
            <a:xfrm>
              <a:off x="-2948040" y="6553080"/>
              <a:ext cx="311040" cy="2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78"/>
            <p:cNvSpPr/>
            <p:nvPr/>
          </p:nvSpPr>
          <p:spPr>
            <a:xfrm>
              <a:off x="-958680" y="6553080"/>
              <a:ext cx="311040" cy="2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79"/>
            <p:cNvSpPr/>
            <p:nvPr/>
          </p:nvSpPr>
          <p:spPr>
            <a:xfrm>
              <a:off x="-2897280" y="6589800"/>
              <a:ext cx="20664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80"/>
            <p:cNvSpPr/>
            <p:nvPr/>
          </p:nvSpPr>
          <p:spPr>
            <a:xfrm>
              <a:off x="-909720" y="6589800"/>
              <a:ext cx="20808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Group 81"/>
          <p:cNvGrpSpPr/>
          <p:nvPr/>
        </p:nvGrpSpPr>
        <p:grpSpPr>
          <a:xfrm>
            <a:off x="1135080" y="2590200"/>
            <a:ext cx="3063240" cy="3522240"/>
            <a:chOff x="1135080" y="2590200"/>
            <a:chExt cx="3063240" cy="3522240"/>
          </a:xfrm>
        </p:grpSpPr>
        <p:sp>
          <p:nvSpPr>
            <p:cNvPr id="185" name="WordArt 82"/>
            <p:cNvSpPr txBox="1"/>
            <p:nvPr/>
          </p:nvSpPr>
          <p:spPr>
            <a:xfrm rot="702000">
              <a:off x="1333440" y="3636000"/>
              <a:ext cx="2666520" cy="222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75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cc"/>
                  </a:soli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86" name="Group 83"/>
            <p:cNvGrpSpPr/>
            <p:nvPr/>
          </p:nvGrpSpPr>
          <p:grpSpPr>
            <a:xfrm>
              <a:off x="1708920" y="2590200"/>
              <a:ext cx="2104920" cy="1740960"/>
              <a:chOff x="1708920" y="2590200"/>
              <a:chExt cx="2104920" cy="1740960"/>
            </a:xfrm>
          </p:grpSpPr>
          <p:sp>
            <p:nvSpPr>
              <p:cNvPr id="187" name="Freeform 84"/>
              <p:cNvSpPr/>
              <p:nvPr/>
            </p:nvSpPr>
            <p:spPr>
              <a:xfrm rot="21330000">
                <a:off x="2635560" y="2992680"/>
                <a:ext cx="649440" cy="131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85"/>
              <p:cNvSpPr/>
              <p:nvPr/>
            </p:nvSpPr>
            <p:spPr>
              <a:xfrm rot="21330000">
                <a:off x="1829880" y="2699280"/>
                <a:ext cx="1886040" cy="119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86"/>
              <p:cNvSpPr/>
              <p:nvPr/>
            </p:nvSpPr>
            <p:spPr>
              <a:xfrm rot="21330000">
                <a:off x="2868840" y="2971800"/>
                <a:ext cx="450000" cy="10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87"/>
              <p:cNvSpPr/>
              <p:nvPr/>
            </p:nvSpPr>
            <p:spPr>
              <a:xfrm rot="21330000">
                <a:off x="2585880" y="3105720"/>
                <a:ext cx="152280" cy="116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88"/>
              <p:cNvSpPr/>
              <p:nvPr/>
            </p:nvSpPr>
            <p:spPr>
              <a:xfrm rot="21330000">
                <a:off x="2844360" y="3647520"/>
                <a:ext cx="237240" cy="6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89"/>
              <p:cNvSpPr/>
              <p:nvPr/>
            </p:nvSpPr>
            <p:spPr>
              <a:xfrm rot="21330000">
                <a:off x="2857320" y="3715560"/>
                <a:ext cx="174600" cy="4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Freeform 90"/>
              <p:cNvSpPr/>
              <p:nvPr/>
            </p:nvSpPr>
            <p:spPr>
              <a:xfrm rot="21330000">
                <a:off x="2982240" y="3202560"/>
                <a:ext cx="221400" cy="35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Freeform 91"/>
              <p:cNvSpPr/>
              <p:nvPr/>
            </p:nvSpPr>
            <p:spPr>
              <a:xfrm rot="21330000">
                <a:off x="3141720" y="3242880"/>
                <a:ext cx="691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92"/>
              <p:cNvSpPr/>
              <p:nvPr/>
            </p:nvSpPr>
            <p:spPr>
              <a:xfrm rot="21330000">
                <a:off x="2697480" y="3179880"/>
                <a:ext cx="268200" cy="18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93"/>
              <p:cNvSpPr/>
              <p:nvPr/>
            </p:nvSpPr>
            <p:spPr>
              <a:xfrm rot="21330000">
                <a:off x="2821680" y="3233160"/>
                <a:ext cx="114120" cy="10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94"/>
              <p:cNvSpPr/>
              <p:nvPr/>
            </p:nvSpPr>
            <p:spPr>
              <a:xfrm rot="21330000">
                <a:off x="2388240" y="2928600"/>
                <a:ext cx="1167120" cy="16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95"/>
              <p:cNvSpPr/>
              <p:nvPr/>
            </p:nvSpPr>
            <p:spPr>
              <a:xfrm rot="21330000">
                <a:off x="2187720" y="2643120"/>
                <a:ext cx="1373400" cy="48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6"/>
              <p:cNvSpPr/>
              <p:nvPr/>
            </p:nvSpPr>
            <p:spPr>
              <a:xfrm rot="21330000">
                <a:off x="1750680" y="2837520"/>
                <a:ext cx="938520" cy="1103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97"/>
              <p:cNvSpPr/>
              <p:nvPr/>
            </p:nvSpPr>
            <p:spPr>
              <a:xfrm rot="21330000">
                <a:off x="2463480" y="2864520"/>
                <a:ext cx="7099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98"/>
              <p:cNvSpPr/>
              <p:nvPr/>
            </p:nvSpPr>
            <p:spPr>
              <a:xfrm rot="21330000">
                <a:off x="2437920" y="3390120"/>
                <a:ext cx="2664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99"/>
              <p:cNvSpPr/>
              <p:nvPr/>
            </p:nvSpPr>
            <p:spPr>
              <a:xfrm rot="21330000">
                <a:off x="3136680" y="2943360"/>
                <a:ext cx="642240" cy="90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00"/>
              <p:cNvSpPr/>
              <p:nvPr/>
            </p:nvSpPr>
            <p:spPr>
              <a:xfrm rot="21330000">
                <a:off x="2838240" y="3056040"/>
                <a:ext cx="136800" cy="7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01"/>
              <p:cNvSpPr/>
              <p:nvPr/>
            </p:nvSpPr>
            <p:spPr>
              <a:xfrm rot="21330000">
                <a:off x="3104280" y="3050280"/>
                <a:ext cx="914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02"/>
              <p:cNvSpPr/>
              <p:nvPr/>
            </p:nvSpPr>
            <p:spPr>
              <a:xfrm rot="21330000">
                <a:off x="2783880" y="3645360"/>
                <a:ext cx="17640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03"/>
              <p:cNvSpPr/>
              <p:nvPr/>
            </p:nvSpPr>
            <p:spPr>
              <a:xfrm rot="21330000">
                <a:off x="2735280" y="3605040"/>
                <a:ext cx="9864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Freeform 104"/>
              <p:cNvSpPr/>
              <p:nvPr/>
            </p:nvSpPr>
            <p:spPr>
              <a:xfrm rot="21330000">
                <a:off x="2773080" y="3980160"/>
                <a:ext cx="228600" cy="28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8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3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1.09167 -0.01109 E">
                                      <p:cBhvr>
                                        <p:cTn id="36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ependent Variab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 have 2 arms but 1 goes out the car window and the other goes out the sunroof.  I have to depend on x to drive me arou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 am dependent on others for everyth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1" name="Group 167"/>
          <p:cNvGrpSpPr/>
          <p:nvPr/>
        </p:nvGrpSpPr>
        <p:grpSpPr>
          <a:xfrm>
            <a:off x="-4002120" y="5243760"/>
            <a:ext cx="4002120" cy="1390320"/>
            <a:chOff x="-4002120" y="5243760"/>
            <a:chExt cx="4002120" cy="1390320"/>
          </a:xfrm>
        </p:grpSpPr>
        <p:grpSp>
          <p:nvGrpSpPr>
            <p:cNvPr id="212" name="Group 166"/>
            <p:cNvGrpSpPr/>
            <p:nvPr/>
          </p:nvGrpSpPr>
          <p:grpSpPr>
            <a:xfrm>
              <a:off x="-2746440" y="5243760"/>
              <a:ext cx="768600" cy="1283400"/>
              <a:chOff x="-2746440" y="5243760"/>
              <a:chExt cx="768600" cy="1283400"/>
            </a:xfrm>
          </p:grpSpPr>
          <p:sp>
            <p:nvSpPr>
              <p:cNvPr id="213" name="WordArt 121"/>
              <p:cNvSpPr txBox="1"/>
              <p:nvPr/>
            </p:nvSpPr>
            <p:spPr>
              <a:xfrm rot="702600">
                <a:off x="-2666880" y="5627520"/>
                <a:ext cx="609480" cy="84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2751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ff"/>
                    </a:solidFill>
                    <a:latin typeface="Arial Black"/>
                  </a:rPr>
                  <a:t>x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214" name="Group 122"/>
              <p:cNvGrpSpPr/>
              <p:nvPr/>
            </p:nvGrpSpPr>
            <p:grpSpPr>
              <a:xfrm>
                <a:off x="-2603880" y="5243760"/>
                <a:ext cx="493200" cy="648360"/>
                <a:chOff x="-2603880" y="5243760"/>
                <a:chExt cx="493200" cy="648360"/>
              </a:xfrm>
            </p:grpSpPr>
            <p:sp>
              <p:nvSpPr>
                <p:cNvPr id="215" name="Freeform 123"/>
                <p:cNvSpPr/>
                <p:nvPr/>
              </p:nvSpPr>
              <p:spPr>
                <a:xfrm rot="21330000">
                  <a:off x="-2381760" y="5388120"/>
                  <a:ext cx="147960" cy="498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124"/>
                <p:cNvSpPr/>
                <p:nvPr/>
              </p:nvSpPr>
              <p:spPr>
                <a:xfrm rot="21330000">
                  <a:off x="-2570040" y="5275440"/>
                  <a:ext cx="429840" cy="45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125"/>
                <p:cNvSpPr/>
                <p:nvPr/>
              </p:nvSpPr>
              <p:spPr>
                <a:xfrm rot="21330000">
                  <a:off x="-2331000" y="5382360"/>
                  <a:ext cx="102600" cy="382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126"/>
                <p:cNvSpPr/>
                <p:nvPr/>
              </p:nvSpPr>
              <p:spPr>
                <a:xfrm rot="21330000">
                  <a:off x="-2392920" y="5427720"/>
                  <a:ext cx="34560" cy="443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127"/>
                <p:cNvSpPr/>
                <p:nvPr/>
              </p:nvSpPr>
              <p:spPr>
                <a:xfrm rot="21330000">
                  <a:off x="-2334240" y="5637240"/>
                  <a:ext cx="5400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128"/>
                <p:cNvSpPr/>
                <p:nvPr/>
              </p:nvSpPr>
              <p:spPr>
                <a:xfrm rot="21330000">
                  <a:off x="-2330280" y="5662440"/>
                  <a:ext cx="39600" cy="17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29"/>
                <p:cNvSpPr/>
                <p:nvPr/>
              </p:nvSpPr>
              <p:spPr>
                <a:xfrm rot="21330000">
                  <a:off x="-2306160" y="5469840"/>
                  <a:ext cx="50400" cy="13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130"/>
                <p:cNvSpPr/>
                <p:nvPr/>
              </p:nvSpPr>
              <p:spPr>
                <a:xfrm rot="21330000">
                  <a:off x="-2270880" y="5486400"/>
                  <a:ext cx="15480" cy="21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131"/>
                <p:cNvSpPr/>
                <p:nvPr/>
              </p:nvSpPr>
              <p:spPr>
                <a:xfrm rot="21330000">
                  <a:off x="-2372400" y="5458680"/>
                  <a:ext cx="60840" cy="71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132"/>
                <p:cNvSpPr/>
                <p:nvPr/>
              </p:nvSpPr>
              <p:spPr>
                <a:xfrm rot="21330000">
                  <a:off x="-2343600" y="5478840"/>
                  <a:ext cx="25920" cy="41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133"/>
                <p:cNvSpPr/>
                <p:nvPr/>
              </p:nvSpPr>
              <p:spPr>
                <a:xfrm rot="21330000">
                  <a:off x="-2445840" y="5364720"/>
                  <a:ext cx="266040" cy="64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134"/>
                <p:cNvSpPr/>
                <p:nvPr/>
              </p:nvSpPr>
              <p:spPr>
                <a:xfrm rot="21330000">
                  <a:off x="-2493360" y="5255640"/>
                  <a:ext cx="312840" cy="183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135"/>
                <p:cNvSpPr/>
                <p:nvPr/>
              </p:nvSpPr>
              <p:spPr>
                <a:xfrm rot="21330000">
                  <a:off x="-2587680" y="5320800"/>
                  <a:ext cx="213840" cy="418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136"/>
                <p:cNvSpPr/>
                <p:nvPr/>
              </p:nvSpPr>
              <p:spPr>
                <a:xfrm rot="21330000">
                  <a:off x="-2430360" y="5338800"/>
                  <a:ext cx="161640" cy="40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137"/>
                <p:cNvSpPr/>
                <p:nvPr/>
              </p:nvSpPr>
              <p:spPr>
                <a:xfrm rot="21330000">
                  <a:off x="-2430000" y="5535000"/>
                  <a:ext cx="60480" cy="55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38"/>
                <p:cNvSpPr/>
                <p:nvPr/>
              </p:nvSpPr>
              <p:spPr>
                <a:xfrm rot="21330000">
                  <a:off x="-2270160" y="5375520"/>
                  <a:ext cx="146160" cy="343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139"/>
                <p:cNvSpPr/>
                <p:nvPr/>
              </p:nvSpPr>
              <p:spPr>
                <a:xfrm rot="21330000">
                  <a:off x="-2342520" y="5412600"/>
                  <a:ext cx="30960" cy="3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140"/>
                <p:cNvSpPr/>
                <p:nvPr/>
              </p:nvSpPr>
              <p:spPr>
                <a:xfrm rot="21330000">
                  <a:off x="-2281680" y="5412960"/>
                  <a:ext cx="20880" cy="19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141"/>
                <p:cNvSpPr/>
                <p:nvPr/>
              </p:nvSpPr>
              <p:spPr>
                <a:xfrm rot="21330000">
                  <a:off x="-2347560" y="5635080"/>
                  <a:ext cx="3996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142"/>
                <p:cNvSpPr/>
                <p:nvPr/>
              </p:nvSpPr>
              <p:spPr>
                <a:xfrm rot="21330000">
                  <a:off x="-2359440" y="5618520"/>
                  <a:ext cx="2232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143"/>
                <p:cNvSpPr/>
                <p:nvPr/>
              </p:nvSpPr>
              <p:spPr>
                <a:xfrm rot="21330000">
                  <a:off x="-2345400" y="5761800"/>
                  <a:ext cx="51840" cy="109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36" name="Group 144"/>
            <p:cNvGrpSpPr/>
            <p:nvPr/>
          </p:nvGrpSpPr>
          <p:grpSpPr>
            <a:xfrm>
              <a:off x="-3392640" y="5338800"/>
              <a:ext cx="457200" cy="1294920"/>
              <a:chOff x="-3392640" y="5338800"/>
              <a:chExt cx="457200" cy="1294920"/>
            </a:xfrm>
          </p:grpSpPr>
          <p:sp>
            <p:nvSpPr>
              <p:cNvPr id="237" name="WordArt 145"/>
              <p:cNvSpPr txBox="1"/>
              <p:nvPr/>
            </p:nvSpPr>
            <p:spPr>
              <a:xfrm>
                <a:off x="-3392640" y="5753160"/>
                <a:ext cx="457200" cy="880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2069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3366"/>
                    </a:solidFill>
                    <a:latin typeface="Arial Black"/>
                  </a:rPr>
                  <a:t>y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238" name="Group 146"/>
              <p:cNvGrpSpPr/>
              <p:nvPr/>
            </p:nvGrpSpPr>
            <p:grpSpPr>
              <a:xfrm>
                <a:off x="-3363480" y="5338800"/>
                <a:ext cx="375840" cy="624600"/>
                <a:chOff x="-3363480" y="5338800"/>
                <a:chExt cx="375840" cy="624600"/>
              </a:xfrm>
            </p:grpSpPr>
            <p:sp>
              <p:nvSpPr>
                <p:cNvPr id="239" name="Freeform 147"/>
                <p:cNvSpPr/>
                <p:nvPr/>
              </p:nvSpPr>
              <p:spPr>
                <a:xfrm>
                  <a:off x="-3363480" y="5338800"/>
                  <a:ext cx="375840" cy="624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148"/>
                <p:cNvSpPr/>
                <p:nvPr/>
              </p:nvSpPr>
              <p:spPr>
                <a:xfrm>
                  <a:off x="-3186720" y="5371560"/>
                  <a:ext cx="13680" cy="23040"/>
                </a:xfrm>
                <a:prstGeom prst="pie">
                  <a:avLst/>
                </a:prstGeom>
                <a:solidFill>
                  <a:srgbClr val="00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149"/>
                <p:cNvSpPr/>
                <p:nvPr/>
              </p:nvSpPr>
              <p:spPr>
                <a:xfrm>
                  <a:off x="-3160080" y="5376600"/>
                  <a:ext cx="51840" cy="60120"/>
                </a:xfrm>
                <a:prstGeom prst="pie">
                  <a:avLst/>
                </a:prstGeom>
                <a:solidFill>
                  <a:srgbClr val="00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150"/>
                <p:cNvSpPr/>
                <p:nvPr/>
              </p:nvSpPr>
              <p:spPr>
                <a:xfrm>
                  <a:off x="-3103200" y="5394240"/>
                  <a:ext cx="16560" cy="28440"/>
                </a:xfrm>
                <a:prstGeom prst="pie">
                  <a:avLst/>
                </a:prstGeom>
                <a:solidFill>
                  <a:srgbClr val="00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151"/>
                <p:cNvSpPr/>
                <p:nvPr/>
              </p:nvSpPr>
              <p:spPr>
                <a:xfrm>
                  <a:off x="-3274200" y="5406120"/>
                  <a:ext cx="253080" cy="515880"/>
                </a:xfrm>
                <a:prstGeom prst="pie">
                  <a:avLst/>
                </a:prstGeom>
                <a:solidFill>
                  <a:srgbClr val="af75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152"/>
                <p:cNvSpPr/>
                <p:nvPr/>
              </p:nvSpPr>
              <p:spPr>
                <a:xfrm>
                  <a:off x="-3079800" y="5417280"/>
                  <a:ext cx="11520" cy="13680"/>
                </a:xfrm>
                <a:prstGeom prst="pie">
                  <a:avLst/>
                </a:prstGeom>
                <a:solidFill>
                  <a:srgbClr val="00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53"/>
                <p:cNvSpPr/>
                <p:nvPr/>
              </p:nvSpPr>
              <p:spPr>
                <a:xfrm>
                  <a:off x="-3144960" y="5547600"/>
                  <a:ext cx="71640" cy="63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54"/>
                <p:cNvSpPr/>
                <p:nvPr/>
              </p:nvSpPr>
              <p:spPr>
                <a:xfrm>
                  <a:off x="-3243600" y="5551200"/>
                  <a:ext cx="45360" cy="24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55"/>
                <p:cNvSpPr/>
                <p:nvPr/>
              </p:nvSpPr>
              <p:spPr>
                <a:xfrm>
                  <a:off x="-3138480" y="5586840"/>
                  <a:ext cx="4392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56"/>
                <p:cNvSpPr/>
                <p:nvPr/>
              </p:nvSpPr>
              <p:spPr>
                <a:xfrm>
                  <a:off x="-3224520" y="5622120"/>
                  <a:ext cx="58680" cy="4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57"/>
                <p:cNvSpPr/>
                <p:nvPr/>
              </p:nvSpPr>
              <p:spPr>
                <a:xfrm>
                  <a:off x="-3083400" y="5692680"/>
                  <a:ext cx="47520" cy="37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58"/>
                <p:cNvSpPr/>
                <p:nvPr/>
              </p:nvSpPr>
              <p:spPr>
                <a:xfrm>
                  <a:off x="-3241800" y="5699880"/>
                  <a:ext cx="76680" cy="45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59"/>
                <p:cNvSpPr/>
                <p:nvPr/>
              </p:nvSpPr>
              <p:spPr>
                <a:xfrm>
                  <a:off x="-3321000" y="5731560"/>
                  <a:ext cx="24840" cy="38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60"/>
                <p:cNvSpPr/>
                <p:nvPr/>
              </p:nvSpPr>
              <p:spPr>
                <a:xfrm>
                  <a:off x="-3244680" y="5736240"/>
                  <a:ext cx="56520" cy="47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61"/>
                <p:cNvSpPr/>
                <p:nvPr/>
              </p:nvSpPr>
              <p:spPr>
                <a:xfrm>
                  <a:off x="-3040560" y="5754600"/>
                  <a:ext cx="43560" cy="34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62"/>
                <p:cNvSpPr/>
                <p:nvPr/>
              </p:nvSpPr>
              <p:spPr>
                <a:xfrm>
                  <a:off x="-3346560" y="5760360"/>
                  <a:ext cx="52560" cy="61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63"/>
                <p:cNvSpPr/>
                <p:nvPr/>
              </p:nvSpPr>
              <p:spPr>
                <a:xfrm>
                  <a:off x="-3241800" y="5831640"/>
                  <a:ext cx="34560" cy="80280"/>
                </a:xfrm>
                <a:prstGeom prst="pie">
                  <a:avLst/>
                </a:prstGeom>
                <a:solidFill>
                  <a:srgbClr val="af75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56" name="Group 164"/>
            <p:cNvGrpSpPr/>
            <p:nvPr/>
          </p:nvGrpSpPr>
          <p:grpSpPr>
            <a:xfrm>
              <a:off x="-4002120" y="5859360"/>
              <a:ext cx="4002120" cy="774720"/>
              <a:chOff x="-4002120" y="5859360"/>
              <a:chExt cx="4002120" cy="774720"/>
            </a:xfrm>
          </p:grpSpPr>
          <p:sp>
            <p:nvSpPr>
              <p:cNvPr id="257" name="Freeform 74"/>
              <p:cNvSpPr/>
              <p:nvPr/>
            </p:nvSpPr>
            <p:spPr>
              <a:xfrm>
                <a:off x="-2170080" y="6005520"/>
                <a:ext cx="7128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Freeform 75"/>
              <p:cNvSpPr/>
              <p:nvPr/>
            </p:nvSpPr>
            <p:spPr>
              <a:xfrm>
                <a:off x="-4002120" y="6283080"/>
                <a:ext cx="630360" cy="21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Freeform 76"/>
              <p:cNvSpPr/>
              <p:nvPr/>
            </p:nvSpPr>
            <p:spPr>
              <a:xfrm>
                <a:off x="-2868480" y="6283080"/>
                <a:ext cx="170964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Freeform 77"/>
              <p:cNvSpPr/>
              <p:nvPr/>
            </p:nvSpPr>
            <p:spPr>
              <a:xfrm>
                <a:off x="-2757600" y="5987880"/>
                <a:ext cx="18252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Freeform 78"/>
              <p:cNvSpPr/>
              <p:nvPr/>
            </p:nvSpPr>
            <p:spPr>
              <a:xfrm>
                <a:off x="-4002120" y="6073560"/>
                <a:ext cx="4002120" cy="40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Freeform 79"/>
              <p:cNvSpPr/>
              <p:nvPr/>
            </p:nvSpPr>
            <p:spPr>
              <a:xfrm>
                <a:off x="-2357280" y="5859360"/>
                <a:ext cx="510840" cy="21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Freeform 80"/>
              <p:cNvSpPr/>
              <p:nvPr/>
            </p:nvSpPr>
            <p:spPr>
              <a:xfrm>
                <a:off x="-3292560" y="5948280"/>
                <a:ext cx="534960" cy="12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Freeform 81"/>
              <p:cNvSpPr/>
              <p:nvPr/>
            </p:nvSpPr>
            <p:spPr>
              <a:xfrm>
                <a:off x="-2127240" y="5889600"/>
                <a:ext cx="544680" cy="18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Freeform 82"/>
              <p:cNvSpPr/>
              <p:nvPr/>
            </p:nvSpPr>
            <p:spPr>
              <a:xfrm>
                <a:off x="-4002120" y="6256080"/>
                <a:ext cx="6588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83"/>
              <p:cNvSpPr/>
              <p:nvPr/>
            </p:nvSpPr>
            <p:spPr>
              <a:xfrm>
                <a:off x="-2895480" y="6256080"/>
                <a:ext cx="176832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Freeform 84"/>
              <p:cNvSpPr/>
              <p:nvPr/>
            </p:nvSpPr>
            <p:spPr>
              <a:xfrm>
                <a:off x="-668160" y="6256080"/>
                <a:ext cx="34596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85"/>
              <p:cNvSpPr/>
              <p:nvPr/>
            </p:nvSpPr>
            <p:spPr>
              <a:xfrm>
                <a:off x="-3867120" y="6311880"/>
                <a:ext cx="268200" cy="3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Freeform 86"/>
              <p:cNvSpPr/>
              <p:nvPr/>
            </p:nvSpPr>
            <p:spPr>
              <a:xfrm>
                <a:off x="-1528920" y="6308640"/>
                <a:ext cx="255600" cy="31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87"/>
              <p:cNvSpPr/>
              <p:nvPr/>
            </p:nvSpPr>
            <p:spPr>
              <a:xfrm>
                <a:off x="-1569960" y="6367320"/>
                <a:ext cx="258840" cy="2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8"/>
              <p:cNvSpPr/>
              <p:nvPr/>
            </p:nvSpPr>
            <p:spPr>
              <a:xfrm>
                <a:off x="-1595520" y="6426000"/>
                <a:ext cx="265320" cy="3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Freeform 89"/>
              <p:cNvSpPr/>
              <p:nvPr/>
            </p:nvSpPr>
            <p:spPr>
              <a:xfrm>
                <a:off x="-297000" y="6217920"/>
                <a:ext cx="146160" cy="6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Freeform 90"/>
              <p:cNvSpPr/>
              <p:nvPr/>
            </p:nvSpPr>
            <p:spPr>
              <a:xfrm>
                <a:off x="-441360" y="6306840"/>
                <a:ext cx="365040" cy="43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91"/>
              <p:cNvSpPr/>
              <p:nvPr/>
            </p:nvSpPr>
            <p:spPr>
              <a:xfrm>
                <a:off x="-2722680" y="6124320"/>
                <a:ext cx="189000" cy="4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92"/>
              <p:cNvSpPr/>
              <p:nvPr/>
            </p:nvSpPr>
            <p:spPr>
              <a:xfrm>
                <a:off x="-1222200" y="6186240"/>
                <a:ext cx="65880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93"/>
              <p:cNvSpPr/>
              <p:nvPr/>
            </p:nvSpPr>
            <p:spPr>
              <a:xfrm>
                <a:off x="-3446640" y="6186240"/>
                <a:ext cx="667080" cy="3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94"/>
              <p:cNvSpPr/>
              <p:nvPr/>
            </p:nvSpPr>
            <p:spPr>
              <a:xfrm>
                <a:off x="-3397320" y="6222960"/>
                <a:ext cx="554040" cy="41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Freeform 95"/>
              <p:cNvSpPr/>
              <p:nvPr/>
            </p:nvSpPr>
            <p:spPr>
              <a:xfrm>
                <a:off x="-1174680" y="6222960"/>
                <a:ext cx="554040" cy="41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Freeform 96"/>
              <p:cNvSpPr/>
              <p:nvPr/>
            </p:nvSpPr>
            <p:spPr>
              <a:xfrm>
                <a:off x="-3295800" y="6298920"/>
                <a:ext cx="349560" cy="258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Freeform 97"/>
              <p:cNvSpPr/>
              <p:nvPr/>
            </p:nvSpPr>
            <p:spPr>
              <a:xfrm>
                <a:off x="-1071720" y="6298920"/>
                <a:ext cx="347760" cy="258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98"/>
              <p:cNvSpPr/>
              <p:nvPr/>
            </p:nvSpPr>
            <p:spPr>
              <a:xfrm>
                <a:off x="-3236760" y="6340320"/>
                <a:ext cx="230040" cy="17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99"/>
              <p:cNvSpPr/>
              <p:nvPr/>
            </p:nvSpPr>
            <p:spPr>
              <a:xfrm>
                <a:off x="-1017720" y="6340320"/>
                <a:ext cx="233640" cy="17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83" name="Group 100"/>
          <p:cNvGrpSpPr/>
          <p:nvPr/>
        </p:nvGrpSpPr>
        <p:grpSpPr>
          <a:xfrm>
            <a:off x="1066680" y="1295280"/>
            <a:ext cx="2133360" cy="4114080"/>
            <a:chOff x="1066680" y="1295280"/>
            <a:chExt cx="2133360" cy="4114080"/>
          </a:xfrm>
        </p:grpSpPr>
        <p:sp>
          <p:nvSpPr>
            <p:cNvPr id="284" name="WordArt 101"/>
            <p:cNvSpPr txBox="1"/>
            <p:nvPr/>
          </p:nvSpPr>
          <p:spPr>
            <a:xfrm>
              <a:off x="1066680" y="2611800"/>
              <a:ext cx="2133360" cy="279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069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</a:rPr>
                <a:t>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85" name="Group 102"/>
            <p:cNvGrpSpPr/>
            <p:nvPr/>
          </p:nvGrpSpPr>
          <p:grpSpPr>
            <a:xfrm>
              <a:off x="1201680" y="1295280"/>
              <a:ext cx="1753560" cy="1983600"/>
              <a:chOff x="1201680" y="1295280"/>
              <a:chExt cx="1753560" cy="1983600"/>
            </a:xfrm>
          </p:grpSpPr>
          <p:sp>
            <p:nvSpPr>
              <p:cNvPr id="286" name="Freeform 103"/>
              <p:cNvSpPr/>
              <p:nvPr/>
            </p:nvSpPr>
            <p:spPr>
              <a:xfrm>
                <a:off x="1201680" y="1295280"/>
                <a:ext cx="1753560" cy="198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Freeform 104"/>
              <p:cNvSpPr/>
              <p:nvPr/>
            </p:nvSpPr>
            <p:spPr>
              <a:xfrm>
                <a:off x="2025360" y="1400040"/>
                <a:ext cx="64440" cy="730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Freeform 105"/>
              <p:cNvSpPr/>
              <p:nvPr/>
            </p:nvSpPr>
            <p:spPr>
              <a:xfrm>
                <a:off x="2148480" y="1415160"/>
                <a:ext cx="241920" cy="19152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Freeform 106"/>
              <p:cNvSpPr/>
              <p:nvPr/>
            </p:nvSpPr>
            <p:spPr>
              <a:xfrm>
                <a:off x="2414880" y="1471320"/>
                <a:ext cx="77760" cy="910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Freeform 107"/>
              <p:cNvSpPr/>
              <p:nvPr/>
            </p:nvSpPr>
            <p:spPr>
              <a:xfrm>
                <a:off x="1616760" y="1509120"/>
                <a:ext cx="1180440" cy="163836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Freeform 108"/>
              <p:cNvSpPr/>
              <p:nvPr/>
            </p:nvSpPr>
            <p:spPr>
              <a:xfrm>
                <a:off x="2522880" y="1544400"/>
                <a:ext cx="54360" cy="442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Freeform 109"/>
              <p:cNvSpPr/>
              <p:nvPr/>
            </p:nvSpPr>
            <p:spPr>
              <a:xfrm>
                <a:off x="2220120" y="1958400"/>
                <a:ext cx="334800" cy="20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110"/>
              <p:cNvSpPr/>
              <p:nvPr/>
            </p:nvSpPr>
            <p:spPr>
              <a:xfrm>
                <a:off x="1759680" y="1969560"/>
                <a:ext cx="211680" cy="7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111"/>
              <p:cNvSpPr/>
              <p:nvPr/>
            </p:nvSpPr>
            <p:spPr>
              <a:xfrm>
                <a:off x="2250360" y="2083320"/>
                <a:ext cx="20520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Freeform 112"/>
              <p:cNvSpPr/>
              <p:nvPr/>
            </p:nvSpPr>
            <p:spPr>
              <a:xfrm>
                <a:off x="1848240" y="2194920"/>
                <a:ext cx="274320" cy="15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Freeform 113"/>
              <p:cNvSpPr/>
              <p:nvPr/>
            </p:nvSpPr>
            <p:spPr>
              <a:xfrm>
                <a:off x="2507400" y="2419560"/>
                <a:ext cx="22284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Freeform 114"/>
              <p:cNvSpPr/>
              <p:nvPr/>
            </p:nvSpPr>
            <p:spPr>
              <a:xfrm>
                <a:off x="1767960" y="2441880"/>
                <a:ext cx="358920" cy="14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Freeform 115"/>
              <p:cNvSpPr/>
              <p:nvPr/>
            </p:nvSpPr>
            <p:spPr>
              <a:xfrm>
                <a:off x="1398240" y="2542320"/>
                <a:ext cx="116640" cy="12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Freeform 116"/>
              <p:cNvSpPr/>
              <p:nvPr/>
            </p:nvSpPr>
            <p:spPr>
              <a:xfrm>
                <a:off x="1755360" y="2557800"/>
                <a:ext cx="263520" cy="15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Freeform 117"/>
              <p:cNvSpPr/>
              <p:nvPr/>
            </p:nvSpPr>
            <p:spPr>
              <a:xfrm>
                <a:off x="2706480" y="2615400"/>
                <a:ext cx="203400" cy="10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118"/>
              <p:cNvSpPr/>
              <p:nvPr/>
            </p:nvSpPr>
            <p:spPr>
              <a:xfrm>
                <a:off x="1279440" y="2633760"/>
                <a:ext cx="245880" cy="195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119"/>
              <p:cNvSpPr/>
              <p:nvPr/>
            </p:nvSpPr>
            <p:spPr>
              <a:xfrm>
                <a:off x="1767960" y="2860200"/>
                <a:ext cx="162000" cy="25596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03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5595 L 1.18542 0.03375 E">
                                      <p:cBhvr>
                                        <p:cTn id="50" dur="5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ndependent a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orizo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5562720" y="5410080"/>
            <a:ext cx="281916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8" name="Group 12"/>
          <p:cNvGrpSpPr/>
          <p:nvPr/>
        </p:nvGrpSpPr>
        <p:grpSpPr>
          <a:xfrm>
            <a:off x="601920" y="2437920"/>
            <a:ext cx="3062880" cy="3522240"/>
            <a:chOff x="601920" y="2437920"/>
            <a:chExt cx="3062880" cy="3522240"/>
          </a:xfrm>
        </p:grpSpPr>
        <p:sp>
          <p:nvSpPr>
            <p:cNvPr id="309" name="WordArt 13"/>
            <p:cNvSpPr txBox="1"/>
            <p:nvPr/>
          </p:nvSpPr>
          <p:spPr>
            <a:xfrm rot="702000">
              <a:off x="800280" y="3483720"/>
              <a:ext cx="2666160" cy="222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75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cc"/>
                  </a:soli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10" name="Group 14"/>
            <p:cNvGrpSpPr/>
            <p:nvPr/>
          </p:nvGrpSpPr>
          <p:grpSpPr>
            <a:xfrm>
              <a:off x="1175760" y="2437920"/>
              <a:ext cx="2104560" cy="1740960"/>
              <a:chOff x="1175760" y="2437920"/>
              <a:chExt cx="2104560" cy="1740960"/>
            </a:xfrm>
          </p:grpSpPr>
          <p:sp>
            <p:nvSpPr>
              <p:cNvPr id="311" name="Freeform 15"/>
              <p:cNvSpPr/>
              <p:nvPr/>
            </p:nvSpPr>
            <p:spPr>
              <a:xfrm rot="21330000">
                <a:off x="2102400" y="2840400"/>
                <a:ext cx="649080" cy="131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 rot="21330000">
                <a:off x="1296720" y="2547000"/>
                <a:ext cx="1885680" cy="119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 rot="21330000">
                <a:off x="2335320" y="2819520"/>
                <a:ext cx="450000" cy="10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 rot="21330000">
                <a:off x="2052720" y="2953440"/>
                <a:ext cx="152280" cy="116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 rot="21330000">
                <a:off x="2310840" y="3495240"/>
                <a:ext cx="237240" cy="6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 rot="21330000">
                <a:off x="2323800" y="3563280"/>
                <a:ext cx="174600" cy="4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 rot="21330000">
                <a:off x="2449080" y="3050280"/>
                <a:ext cx="221400" cy="35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 rot="21330000">
                <a:off x="2608200" y="3090600"/>
                <a:ext cx="691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 rot="21330000">
                <a:off x="2164320" y="3027600"/>
                <a:ext cx="268200" cy="18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 rot="21330000">
                <a:off x="2288160" y="3080880"/>
                <a:ext cx="114120" cy="10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 rot="21330000">
                <a:off x="1855080" y="2776320"/>
                <a:ext cx="1167120" cy="16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 rot="21330000">
                <a:off x="1654560" y="2490840"/>
                <a:ext cx="1373040" cy="48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 rot="21330000">
                <a:off x="1217520" y="2685240"/>
                <a:ext cx="938520" cy="1103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 rot="21330000">
                <a:off x="1930320" y="2712240"/>
                <a:ext cx="7099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 rot="21330000">
                <a:off x="1904760" y="3237840"/>
                <a:ext cx="2664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 rot="21330000">
                <a:off x="2603160" y="2791080"/>
                <a:ext cx="642240" cy="90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 rot="21330000">
                <a:off x="2304720" y="2903760"/>
                <a:ext cx="136800" cy="7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 rot="21330000">
                <a:off x="2570760" y="2898000"/>
                <a:ext cx="914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 rot="21330000">
                <a:off x="2250360" y="3493080"/>
                <a:ext cx="17640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 rot="21330000">
                <a:off x="2202120" y="3452760"/>
                <a:ext cx="9864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 rot="21330000">
                <a:off x="2239920" y="3827880"/>
                <a:ext cx="228240" cy="28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32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ependent ak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ut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ff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Verti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7391520" y="2438280"/>
            <a:ext cx="0" cy="266724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7" name="Group 11"/>
          <p:cNvGrpSpPr/>
          <p:nvPr/>
        </p:nvGrpSpPr>
        <p:grpSpPr>
          <a:xfrm>
            <a:off x="1143000" y="1676520"/>
            <a:ext cx="2133360" cy="4114080"/>
            <a:chOff x="1143000" y="1676520"/>
            <a:chExt cx="2133360" cy="4114080"/>
          </a:xfrm>
        </p:grpSpPr>
        <p:sp>
          <p:nvSpPr>
            <p:cNvPr id="338" name="WordArt 12"/>
            <p:cNvSpPr txBox="1"/>
            <p:nvPr/>
          </p:nvSpPr>
          <p:spPr>
            <a:xfrm>
              <a:off x="1143000" y="2993040"/>
              <a:ext cx="2133360" cy="279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069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</a:rPr>
                <a:t>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39" name="Group 13"/>
            <p:cNvGrpSpPr/>
            <p:nvPr/>
          </p:nvGrpSpPr>
          <p:grpSpPr>
            <a:xfrm>
              <a:off x="1278000" y="1676520"/>
              <a:ext cx="1753560" cy="1983600"/>
              <a:chOff x="1278000" y="1676520"/>
              <a:chExt cx="1753560" cy="1983600"/>
            </a:xfrm>
          </p:grpSpPr>
          <p:sp>
            <p:nvSpPr>
              <p:cNvPr id="340" name="Freeform 14"/>
              <p:cNvSpPr/>
              <p:nvPr/>
            </p:nvSpPr>
            <p:spPr>
              <a:xfrm>
                <a:off x="1278000" y="1676520"/>
                <a:ext cx="1753560" cy="198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"/>
              <p:cNvSpPr/>
              <p:nvPr/>
            </p:nvSpPr>
            <p:spPr>
              <a:xfrm>
                <a:off x="2101680" y="1781280"/>
                <a:ext cx="64440" cy="730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Freeform 16"/>
              <p:cNvSpPr/>
              <p:nvPr/>
            </p:nvSpPr>
            <p:spPr>
              <a:xfrm>
                <a:off x="2224800" y="1796400"/>
                <a:ext cx="241920" cy="19152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Freeform 17"/>
              <p:cNvSpPr/>
              <p:nvPr/>
            </p:nvSpPr>
            <p:spPr>
              <a:xfrm>
                <a:off x="2491200" y="1852560"/>
                <a:ext cx="77760" cy="910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Freeform 18"/>
              <p:cNvSpPr/>
              <p:nvPr/>
            </p:nvSpPr>
            <p:spPr>
              <a:xfrm>
                <a:off x="1693080" y="1890360"/>
                <a:ext cx="1180440" cy="163836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Freeform 19"/>
              <p:cNvSpPr/>
              <p:nvPr/>
            </p:nvSpPr>
            <p:spPr>
              <a:xfrm>
                <a:off x="2599200" y="1925640"/>
                <a:ext cx="54360" cy="442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20"/>
              <p:cNvSpPr/>
              <p:nvPr/>
            </p:nvSpPr>
            <p:spPr>
              <a:xfrm>
                <a:off x="2296440" y="2339640"/>
                <a:ext cx="334800" cy="20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21"/>
              <p:cNvSpPr/>
              <p:nvPr/>
            </p:nvSpPr>
            <p:spPr>
              <a:xfrm>
                <a:off x="1836000" y="2350800"/>
                <a:ext cx="211680" cy="7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22"/>
              <p:cNvSpPr/>
              <p:nvPr/>
            </p:nvSpPr>
            <p:spPr>
              <a:xfrm>
                <a:off x="2326680" y="2464560"/>
                <a:ext cx="20520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23"/>
              <p:cNvSpPr/>
              <p:nvPr/>
            </p:nvSpPr>
            <p:spPr>
              <a:xfrm>
                <a:off x="1924560" y="2576160"/>
                <a:ext cx="274320" cy="15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24"/>
              <p:cNvSpPr/>
              <p:nvPr/>
            </p:nvSpPr>
            <p:spPr>
              <a:xfrm>
                <a:off x="2583720" y="2800800"/>
                <a:ext cx="22284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25"/>
              <p:cNvSpPr/>
              <p:nvPr/>
            </p:nvSpPr>
            <p:spPr>
              <a:xfrm>
                <a:off x="1844280" y="2823120"/>
                <a:ext cx="358920" cy="14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26"/>
              <p:cNvSpPr/>
              <p:nvPr/>
            </p:nvSpPr>
            <p:spPr>
              <a:xfrm>
                <a:off x="1474560" y="2923560"/>
                <a:ext cx="116640" cy="12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27"/>
              <p:cNvSpPr/>
              <p:nvPr/>
            </p:nvSpPr>
            <p:spPr>
              <a:xfrm>
                <a:off x="1831680" y="2939040"/>
                <a:ext cx="263520" cy="15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28"/>
              <p:cNvSpPr/>
              <p:nvPr/>
            </p:nvSpPr>
            <p:spPr>
              <a:xfrm>
                <a:off x="2782800" y="2996640"/>
                <a:ext cx="203400" cy="10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29"/>
              <p:cNvSpPr/>
              <p:nvPr/>
            </p:nvSpPr>
            <p:spPr>
              <a:xfrm>
                <a:off x="1355760" y="3015000"/>
                <a:ext cx="245880" cy="195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30"/>
              <p:cNvSpPr/>
              <p:nvPr/>
            </p:nvSpPr>
            <p:spPr>
              <a:xfrm>
                <a:off x="1844280" y="3241440"/>
                <a:ext cx="162000" cy="25596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57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hat is the independent and dependent variable ?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How fast I run depends on what is chasing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money I have determines what we eat for din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winner of the race depends on who runs fas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Answ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fast I ru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pends 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at is chasing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oney I have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determin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we eat for din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inner of the race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depends o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o runs fas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hat is the independent and dependent variable ?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perimeter of a square is determined by the length off the sid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number of hamburgers you eat depends on how hungry you fe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What time I get to  work is determined by what time I leave my ho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3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8" dur="3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" dur="3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3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7" dur="3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3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3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56" dur="3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7" dur="3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imeter of a square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is determined b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e length off the sides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mber of hamburgers you eat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depends o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ow hungry you feel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me I get to  work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is determined b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 time I leave my house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31:56Z</dcterms:created>
  <dc:creator>training</dc:creator>
  <dc:description/>
  <dc:language>en-US</dc:language>
  <cp:lastModifiedBy>Janna Smith</cp:lastModifiedBy>
  <dcterms:modified xsi:type="dcterms:W3CDTF">2008-07-29T16:28:55Z</dcterms:modified>
  <cp:revision>6</cp:revision>
  <dc:subject/>
  <dc:title>Independent v Dependent</dc:title>
</cp:coreProperties>
</file>